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315023-560D-4CF1-9F21-F2F07DA926D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9F2-339A-4884-B8DA-D22913BE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FCF-D06D-4DE4-858E-C937AB20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F93-AF50-46C5-BFFA-89910AC7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AAE-21FE-4F7D-8AF9-E5CFE3D2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34E-2817-4F9F-97C6-65039C3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99B-11EB-4A75-A515-C6F6B6A9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536-1B79-4247-9632-AFD2C1FE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2EF-C72D-4C0D-B0DC-79A8B8D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704-9849-4E7D-875B-2BD21B1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B2C-C18B-4AE9-9423-8D3A02CB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E2F-2533-4BDE-963A-615F561E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D66-DB9F-4252-B66F-3164A45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6600"/>
                </a:solidFill>
                <a:latin typeface="Bookman Old Styl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6600"/>
                </a:solidFill>
                <a:latin typeface="Bookman Old Style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Bookman Old Style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FF48B6-4D27-4183-A012-C9F756B020B1}" type="slidenum">
              <a:rPr b="0" lang="en-GB" sz="1400" spc="-1" strike="noStrike">
                <a:solidFill>
                  <a:srgbClr val="ffffff"/>
                </a:solidFill>
                <a:latin typeface="Bookman Old Style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7360" y="333360"/>
            <a:ext cx="5487840" cy="386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00200" y="1143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спечению безопасности полето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авиакомпан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АО "Аэрофлот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653000"/>
            <a:ext cx="3960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195ca0"/>
                </a:solidFill>
                <a:latin typeface="Arial"/>
              </a:rPr>
              <a:t>ДОКЛ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195ca0"/>
                </a:solidFill>
                <a:latin typeface="Arial"/>
              </a:rPr>
              <a:t>ЗАМЕСТИТЕЛЯ НАЧАЛЬНИКА ИНСПЕКЦИИ ПО БЕЗОПАСНОСТИ ПОЛЕТОВ ОАО «АЭРОФЛО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195ca0"/>
                </a:solidFill>
                <a:latin typeface="Arial"/>
              </a:rPr>
              <a:t>МАТВЕЕВА Г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4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908000" y="333360"/>
          <a:ext cx="304920" cy="31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33360"/>
                    <a:ext cx="3049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2320920"/>
            <a:ext cx="322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33600" y="2320920"/>
            <a:ext cx="322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6120" y="2590920"/>
            <a:ext cx="905040" cy="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6120" y="2590920"/>
            <a:ext cx="905040" cy="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98900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Раздел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Verdana"/>
              </a:rPr>
              <a:t>Человеческий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4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908000" y="333360"/>
          <a:ext cx="304920" cy="31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33360"/>
                    <a:ext cx="3049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3600" y="2320920"/>
            <a:ext cx="322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33600" y="2320920"/>
            <a:ext cx="322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6120" y="2590920"/>
            <a:ext cx="905040" cy="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6120" y="2590920"/>
            <a:ext cx="905040" cy="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26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Челове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1197000"/>
            <a:ext cx="56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Цель этого раздела состоит в том, чтобы обеспечить руководство знаниями в области возможностей и ограничений человека в летной деятельности через наилучшее понимание факторов, затрагивающих применение концепции Управления Ресурсами Экипажа (CRM) в нормальных и аварийных ситуациях и через понимание модели причин авиационных происше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86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Требования ICAO, изложены в Приложениях 1 и 6 Конвенции о международной гражданской авиации и «Руководстве по обучению в области человеческого фактора»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Doc 9683-AN/950)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, а также в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приказе Федеральной авиационной службы от 09.06.1999 №139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«О введении программ подготовки членов экипажей воздушных судов гражданской авиации РФ в области человеческого фактора (CRM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1728720" cy="1330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4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908000" y="333360"/>
          <a:ext cx="304920" cy="31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33360"/>
                    <a:ext cx="3049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627280" y="26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Челове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33600" y="2320920"/>
            <a:ext cx="322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33600" y="2320920"/>
            <a:ext cx="322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33600" y="2320920"/>
            <a:ext cx="357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98900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48000" y="2490840"/>
            <a:ext cx="1824120" cy="1660320"/>
            <a:chOff x="3348000" y="2490840"/>
            <a:chExt cx="1824120" cy="1660320"/>
          </a:xfrm>
        </p:grpSpPr>
        <p:sp>
          <p:nvSpPr>
            <p:cNvPr id="96" name=""/>
            <p:cNvSpPr/>
            <p:nvPr/>
          </p:nvSpPr>
          <p:spPr>
            <a:xfrm flipV="1">
              <a:off x="3348000" y="2490840"/>
              <a:ext cx="1824120" cy="1660320"/>
            </a:xfrm>
            <a:custGeom>
              <a:avLst/>
              <a:gdLst/>
              <a:ahLst/>
              <a:rect l="l" t="t" r="r" b="b"/>
              <a:pathLst>
                <a:path w="1149" h="1263">
                  <a:moveTo>
                    <a:pt x="76" y="93"/>
                  </a:moveTo>
                  <a:cubicBezTo>
                    <a:pt x="99" y="78"/>
                    <a:pt x="133" y="119"/>
                    <a:pt x="189" y="106"/>
                  </a:cubicBezTo>
                  <a:cubicBezTo>
                    <a:pt x="245" y="93"/>
                    <a:pt x="333" y="0"/>
                    <a:pt x="416" y="15"/>
                  </a:cubicBezTo>
                  <a:cubicBezTo>
                    <a:pt x="499" y="30"/>
                    <a:pt x="590" y="181"/>
                    <a:pt x="688" y="196"/>
                  </a:cubicBezTo>
                  <a:cubicBezTo>
                    <a:pt x="786" y="211"/>
                    <a:pt x="938" y="106"/>
                    <a:pt x="1006" y="106"/>
                  </a:cubicBezTo>
                  <a:cubicBezTo>
                    <a:pt x="1074" y="106"/>
                    <a:pt x="1090" y="151"/>
                    <a:pt x="1097" y="196"/>
                  </a:cubicBezTo>
                  <a:cubicBezTo>
                    <a:pt x="1104" y="241"/>
                    <a:pt x="1044" y="310"/>
                    <a:pt x="1051" y="378"/>
                  </a:cubicBezTo>
                  <a:cubicBezTo>
                    <a:pt x="1058" y="446"/>
                    <a:pt x="1149" y="530"/>
                    <a:pt x="1142" y="605"/>
                  </a:cubicBezTo>
                  <a:cubicBezTo>
                    <a:pt x="1135" y="680"/>
                    <a:pt x="1021" y="748"/>
                    <a:pt x="1006" y="831"/>
                  </a:cubicBezTo>
                  <a:cubicBezTo>
                    <a:pt x="991" y="914"/>
                    <a:pt x="1051" y="1036"/>
                    <a:pt x="1051" y="1104"/>
                  </a:cubicBezTo>
                  <a:cubicBezTo>
                    <a:pt x="1051" y="1172"/>
                    <a:pt x="1029" y="1217"/>
                    <a:pt x="1006" y="1240"/>
                  </a:cubicBezTo>
                  <a:cubicBezTo>
                    <a:pt x="983" y="1263"/>
                    <a:pt x="953" y="1240"/>
                    <a:pt x="915" y="1240"/>
                  </a:cubicBezTo>
                  <a:cubicBezTo>
                    <a:pt x="877" y="1240"/>
                    <a:pt x="832" y="1240"/>
                    <a:pt x="779" y="1240"/>
                  </a:cubicBezTo>
                  <a:cubicBezTo>
                    <a:pt x="726" y="1240"/>
                    <a:pt x="681" y="1255"/>
                    <a:pt x="598" y="1240"/>
                  </a:cubicBezTo>
                  <a:cubicBezTo>
                    <a:pt x="515" y="1225"/>
                    <a:pt x="363" y="1149"/>
                    <a:pt x="280" y="1149"/>
                  </a:cubicBezTo>
                  <a:cubicBezTo>
                    <a:pt x="197" y="1149"/>
                    <a:pt x="144" y="1240"/>
                    <a:pt x="99" y="1240"/>
                  </a:cubicBezTo>
                  <a:cubicBezTo>
                    <a:pt x="54" y="1240"/>
                    <a:pt x="16" y="1194"/>
                    <a:pt x="8" y="1149"/>
                  </a:cubicBezTo>
                  <a:cubicBezTo>
                    <a:pt x="0" y="1104"/>
                    <a:pt x="53" y="1036"/>
                    <a:pt x="53" y="968"/>
                  </a:cubicBezTo>
                  <a:cubicBezTo>
                    <a:pt x="53" y="900"/>
                    <a:pt x="0" y="817"/>
                    <a:pt x="8" y="741"/>
                  </a:cubicBezTo>
                  <a:cubicBezTo>
                    <a:pt x="16" y="665"/>
                    <a:pt x="91" y="605"/>
                    <a:pt x="99" y="514"/>
                  </a:cubicBezTo>
                  <a:cubicBezTo>
                    <a:pt x="107" y="423"/>
                    <a:pt x="57" y="266"/>
                    <a:pt x="53" y="196"/>
                  </a:cubicBezTo>
                  <a:cubicBezTo>
                    <a:pt x="49" y="126"/>
                    <a:pt x="53" y="108"/>
                    <a:pt x="76" y="93"/>
                  </a:cubicBezTo>
                  <a:close/>
                </a:path>
              </a:pathLst>
            </a:custGeom>
            <a:solidFill>
              <a:srgbClr val="ffcc99">
                <a:alpha val="51000"/>
              </a:srgbClr>
            </a:solidFill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00600" y="2906640"/>
              <a:ext cx="7189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Verdana"/>
                </a:rPr>
                <a:t>Ч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446120" y="2490840"/>
            <a:ext cx="1613160" cy="1631880"/>
            <a:chOff x="1446120" y="2490840"/>
            <a:chExt cx="1613160" cy="1631880"/>
          </a:xfrm>
        </p:grpSpPr>
        <p:sp>
          <p:nvSpPr>
            <p:cNvPr id="99" name=""/>
            <p:cNvSpPr/>
            <p:nvPr/>
          </p:nvSpPr>
          <p:spPr>
            <a:xfrm>
              <a:off x="1446120" y="2590920"/>
              <a:ext cx="905040" cy="1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6120" y="2590920"/>
              <a:ext cx="905040" cy="1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619280" y="2490840"/>
              <a:ext cx="1415880" cy="1631880"/>
              <a:chOff x="1619280" y="2490840"/>
              <a:chExt cx="1415880" cy="1631880"/>
            </a:xfrm>
          </p:grpSpPr>
          <p:sp>
            <p:nvSpPr>
              <p:cNvPr id="102" name=""/>
              <p:cNvSpPr/>
              <p:nvPr/>
            </p:nvSpPr>
            <p:spPr>
              <a:xfrm>
                <a:off x="1619280" y="2490840"/>
                <a:ext cx="1415880" cy="1631880"/>
              </a:xfrm>
              <a:custGeom>
                <a:avLst/>
                <a:gdLst/>
                <a:ahLst/>
                <a:rect l="l" t="t" r="r" b="b"/>
                <a:pathLst>
                  <a:path w="1111" h="1195">
                    <a:moveTo>
                      <a:pt x="53" y="99"/>
                    </a:moveTo>
                    <a:cubicBezTo>
                      <a:pt x="83" y="76"/>
                      <a:pt x="144" y="114"/>
                      <a:pt x="189" y="99"/>
                    </a:cubicBezTo>
                    <a:cubicBezTo>
                      <a:pt x="234" y="84"/>
                      <a:pt x="234" y="0"/>
                      <a:pt x="325" y="8"/>
                    </a:cubicBezTo>
                    <a:cubicBezTo>
                      <a:pt x="416" y="16"/>
                      <a:pt x="627" y="137"/>
                      <a:pt x="733" y="144"/>
                    </a:cubicBezTo>
                    <a:cubicBezTo>
                      <a:pt x="839" y="151"/>
                      <a:pt x="907" y="53"/>
                      <a:pt x="960" y="53"/>
                    </a:cubicBezTo>
                    <a:cubicBezTo>
                      <a:pt x="1013" y="53"/>
                      <a:pt x="1028" y="91"/>
                      <a:pt x="1051" y="144"/>
                    </a:cubicBezTo>
                    <a:cubicBezTo>
                      <a:pt x="1074" y="197"/>
                      <a:pt x="1089" y="303"/>
                      <a:pt x="1096" y="371"/>
                    </a:cubicBezTo>
                    <a:cubicBezTo>
                      <a:pt x="1103" y="439"/>
                      <a:pt x="1103" y="484"/>
                      <a:pt x="1096" y="552"/>
                    </a:cubicBezTo>
                    <a:cubicBezTo>
                      <a:pt x="1089" y="620"/>
                      <a:pt x="1051" y="711"/>
                      <a:pt x="1051" y="779"/>
                    </a:cubicBezTo>
                    <a:cubicBezTo>
                      <a:pt x="1051" y="847"/>
                      <a:pt x="1089" y="901"/>
                      <a:pt x="1096" y="961"/>
                    </a:cubicBezTo>
                    <a:cubicBezTo>
                      <a:pt x="1103" y="1021"/>
                      <a:pt x="1111" y="1104"/>
                      <a:pt x="1096" y="1142"/>
                    </a:cubicBezTo>
                    <a:cubicBezTo>
                      <a:pt x="1081" y="1180"/>
                      <a:pt x="1058" y="1187"/>
                      <a:pt x="1005" y="1187"/>
                    </a:cubicBezTo>
                    <a:cubicBezTo>
                      <a:pt x="952" y="1187"/>
                      <a:pt x="846" y="1142"/>
                      <a:pt x="778" y="1142"/>
                    </a:cubicBezTo>
                    <a:cubicBezTo>
                      <a:pt x="710" y="1142"/>
                      <a:pt x="688" y="1195"/>
                      <a:pt x="597" y="1187"/>
                    </a:cubicBezTo>
                    <a:cubicBezTo>
                      <a:pt x="506" y="1179"/>
                      <a:pt x="310" y="1105"/>
                      <a:pt x="234" y="1097"/>
                    </a:cubicBezTo>
                    <a:cubicBezTo>
                      <a:pt x="158" y="1089"/>
                      <a:pt x="168" y="1131"/>
                      <a:pt x="143" y="1142"/>
                    </a:cubicBezTo>
                    <a:cubicBezTo>
                      <a:pt x="118" y="1153"/>
                      <a:pt x="97" y="1178"/>
                      <a:pt x="82" y="1163"/>
                    </a:cubicBezTo>
                    <a:cubicBezTo>
                      <a:pt x="67" y="1148"/>
                      <a:pt x="58" y="1085"/>
                      <a:pt x="53" y="1051"/>
                    </a:cubicBezTo>
                    <a:cubicBezTo>
                      <a:pt x="48" y="1017"/>
                      <a:pt x="61" y="1006"/>
                      <a:pt x="53" y="961"/>
                    </a:cubicBezTo>
                    <a:cubicBezTo>
                      <a:pt x="45" y="916"/>
                      <a:pt x="0" y="847"/>
                      <a:pt x="7" y="779"/>
                    </a:cubicBezTo>
                    <a:cubicBezTo>
                      <a:pt x="14" y="711"/>
                      <a:pt x="98" y="643"/>
                      <a:pt x="98" y="552"/>
                    </a:cubicBezTo>
                    <a:cubicBezTo>
                      <a:pt x="98" y="461"/>
                      <a:pt x="14" y="310"/>
                      <a:pt x="7" y="235"/>
                    </a:cubicBezTo>
                    <a:cubicBezTo>
                      <a:pt x="0" y="160"/>
                      <a:pt x="23" y="122"/>
                      <a:pt x="53" y="99"/>
                    </a:cubicBezTo>
                    <a:close/>
                  </a:path>
                </a:pathLst>
              </a:custGeom>
              <a:solidFill>
                <a:srgbClr val="ffcc99">
                  <a:alpha val="54000"/>
                </a:srgbClr>
              </a:solidFill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38320" y="2873520"/>
                <a:ext cx="577800" cy="1006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619280" y="2637000"/>
              <a:ext cx="14400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Поли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ОА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«Аэрофлот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в отношен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челове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факто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348000" y="765000"/>
            <a:ext cx="1824120" cy="1568520"/>
            <a:chOff x="3348000" y="765000"/>
            <a:chExt cx="1824120" cy="1568520"/>
          </a:xfrm>
        </p:grpSpPr>
        <p:grpSp>
          <p:nvGrpSpPr>
            <p:cNvPr id="106" name=""/>
            <p:cNvGrpSpPr/>
            <p:nvPr/>
          </p:nvGrpSpPr>
          <p:grpSpPr>
            <a:xfrm>
              <a:off x="3348000" y="765000"/>
              <a:ext cx="1824120" cy="1568520"/>
              <a:chOff x="3348000" y="765000"/>
              <a:chExt cx="1824120" cy="1568520"/>
            </a:xfrm>
          </p:grpSpPr>
          <p:sp>
            <p:nvSpPr>
              <p:cNvPr id="107" name=""/>
              <p:cNvSpPr/>
              <p:nvPr/>
            </p:nvSpPr>
            <p:spPr>
              <a:xfrm>
                <a:off x="3348000" y="765000"/>
                <a:ext cx="1824120" cy="1568520"/>
              </a:xfrm>
              <a:custGeom>
                <a:avLst/>
                <a:gdLst/>
                <a:ahLst/>
                <a:rect l="l" t="t" r="r" b="b"/>
                <a:pathLst>
                  <a:path w="1149" h="1263">
                    <a:moveTo>
                      <a:pt x="76" y="93"/>
                    </a:moveTo>
                    <a:cubicBezTo>
                      <a:pt x="99" y="78"/>
                      <a:pt x="133" y="119"/>
                      <a:pt x="189" y="106"/>
                    </a:cubicBezTo>
                    <a:cubicBezTo>
                      <a:pt x="245" y="93"/>
                      <a:pt x="333" y="0"/>
                      <a:pt x="416" y="15"/>
                    </a:cubicBezTo>
                    <a:cubicBezTo>
                      <a:pt x="499" y="30"/>
                      <a:pt x="590" y="181"/>
                      <a:pt x="688" y="196"/>
                    </a:cubicBezTo>
                    <a:cubicBezTo>
                      <a:pt x="786" y="211"/>
                      <a:pt x="938" y="106"/>
                      <a:pt x="1006" y="106"/>
                    </a:cubicBezTo>
                    <a:cubicBezTo>
                      <a:pt x="1074" y="106"/>
                      <a:pt x="1090" y="151"/>
                      <a:pt x="1097" y="196"/>
                    </a:cubicBezTo>
                    <a:cubicBezTo>
                      <a:pt x="1104" y="241"/>
                      <a:pt x="1044" y="310"/>
                      <a:pt x="1051" y="378"/>
                    </a:cubicBezTo>
                    <a:cubicBezTo>
                      <a:pt x="1058" y="446"/>
                      <a:pt x="1149" y="530"/>
                      <a:pt x="1142" y="605"/>
                    </a:cubicBezTo>
                    <a:cubicBezTo>
                      <a:pt x="1135" y="680"/>
                      <a:pt x="1021" y="748"/>
                      <a:pt x="1006" y="831"/>
                    </a:cubicBezTo>
                    <a:cubicBezTo>
                      <a:pt x="991" y="914"/>
                      <a:pt x="1051" y="1036"/>
                      <a:pt x="1051" y="1104"/>
                    </a:cubicBezTo>
                    <a:cubicBezTo>
                      <a:pt x="1051" y="1172"/>
                      <a:pt x="1029" y="1217"/>
                      <a:pt x="1006" y="1240"/>
                    </a:cubicBezTo>
                    <a:cubicBezTo>
                      <a:pt x="983" y="1263"/>
                      <a:pt x="953" y="1240"/>
                      <a:pt x="915" y="1240"/>
                    </a:cubicBezTo>
                    <a:cubicBezTo>
                      <a:pt x="877" y="1240"/>
                      <a:pt x="832" y="1240"/>
                      <a:pt x="779" y="1240"/>
                    </a:cubicBezTo>
                    <a:cubicBezTo>
                      <a:pt x="726" y="1240"/>
                      <a:pt x="681" y="1255"/>
                      <a:pt x="598" y="1240"/>
                    </a:cubicBezTo>
                    <a:cubicBezTo>
                      <a:pt x="515" y="1225"/>
                      <a:pt x="363" y="1149"/>
                      <a:pt x="280" y="1149"/>
                    </a:cubicBezTo>
                    <a:cubicBezTo>
                      <a:pt x="197" y="1149"/>
                      <a:pt x="144" y="1240"/>
                      <a:pt x="99" y="1240"/>
                    </a:cubicBezTo>
                    <a:cubicBezTo>
                      <a:pt x="54" y="1240"/>
                      <a:pt x="16" y="1194"/>
                      <a:pt x="8" y="1149"/>
                    </a:cubicBezTo>
                    <a:cubicBezTo>
                      <a:pt x="0" y="1104"/>
                      <a:pt x="53" y="1036"/>
                      <a:pt x="53" y="968"/>
                    </a:cubicBezTo>
                    <a:cubicBezTo>
                      <a:pt x="53" y="900"/>
                      <a:pt x="0" y="817"/>
                      <a:pt x="8" y="741"/>
                    </a:cubicBezTo>
                    <a:cubicBezTo>
                      <a:pt x="16" y="665"/>
                      <a:pt x="91" y="605"/>
                      <a:pt x="99" y="514"/>
                    </a:cubicBezTo>
                    <a:cubicBezTo>
                      <a:pt x="107" y="423"/>
                      <a:pt x="57" y="266"/>
                      <a:pt x="53" y="196"/>
                    </a:cubicBezTo>
                    <a:cubicBezTo>
                      <a:pt x="49" y="126"/>
                      <a:pt x="53" y="108"/>
                      <a:pt x="76" y="93"/>
                    </a:cubicBezTo>
                    <a:close/>
                  </a:path>
                </a:pathLst>
              </a:custGeom>
              <a:solidFill>
                <a:srgbClr val="ffcc99">
                  <a:alpha val="47000"/>
                </a:srgbClr>
              </a:solidFill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00600" y="1154160"/>
                <a:ext cx="718920" cy="100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781440" y="14130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SH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292720" y="2511000"/>
            <a:ext cx="1468440" cy="1530360"/>
            <a:chOff x="5292720" y="2511000"/>
            <a:chExt cx="1468440" cy="1530360"/>
          </a:xfrm>
        </p:grpSpPr>
        <p:grpSp>
          <p:nvGrpSpPr>
            <p:cNvPr id="111" name=""/>
            <p:cNvGrpSpPr/>
            <p:nvPr/>
          </p:nvGrpSpPr>
          <p:grpSpPr>
            <a:xfrm>
              <a:off x="5303880" y="2511000"/>
              <a:ext cx="1457280" cy="1530360"/>
              <a:chOff x="5303880" y="2511000"/>
              <a:chExt cx="1457280" cy="1530360"/>
            </a:xfrm>
          </p:grpSpPr>
          <p:sp>
            <p:nvSpPr>
              <p:cNvPr id="112" name=""/>
              <p:cNvSpPr/>
              <p:nvPr/>
            </p:nvSpPr>
            <p:spPr>
              <a:xfrm flipV="1">
                <a:off x="5303880" y="2510640"/>
                <a:ext cx="1457280" cy="1530360"/>
              </a:xfrm>
              <a:custGeom>
                <a:avLst/>
                <a:gdLst/>
                <a:ahLst/>
                <a:rect l="l" t="t" r="r" b="b"/>
                <a:pathLst>
                  <a:path w="1111" h="1195">
                    <a:moveTo>
                      <a:pt x="53" y="99"/>
                    </a:moveTo>
                    <a:cubicBezTo>
                      <a:pt x="83" y="76"/>
                      <a:pt x="144" y="114"/>
                      <a:pt x="189" y="99"/>
                    </a:cubicBezTo>
                    <a:cubicBezTo>
                      <a:pt x="234" y="84"/>
                      <a:pt x="234" y="0"/>
                      <a:pt x="325" y="8"/>
                    </a:cubicBezTo>
                    <a:cubicBezTo>
                      <a:pt x="416" y="16"/>
                      <a:pt x="627" y="137"/>
                      <a:pt x="733" y="144"/>
                    </a:cubicBezTo>
                    <a:cubicBezTo>
                      <a:pt x="839" y="151"/>
                      <a:pt x="907" y="53"/>
                      <a:pt x="960" y="53"/>
                    </a:cubicBezTo>
                    <a:cubicBezTo>
                      <a:pt x="1013" y="53"/>
                      <a:pt x="1028" y="91"/>
                      <a:pt x="1051" y="144"/>
                    </a:cubicBezTo>
                    <a:cubicBezTo>
                      <a:pt x="1074" y="197"/>
                      <a:pt x="1089" y="303"/>
                      <a:pt x="1096" y="371"/>
                    </a:cubicBezTo>
                    <a:cubicBezTo>
                      <a:pt x="1103" y="439"/>
                      <a:pt x="1103" y="484"/>
                      <a:pt x="1096" y="552"/>
                    </a:cubicBezTo>
                    <a:cubicBezTo>
                      <a:pt x="1089" y="620"/>
                      <a:pt x="1051" y="711"/>
                      <a:pt x="1051" y="779"/>
                    </a:cubicBezTo>
                    <a:cubicBezTo>
                      <a:pt x="1051" y="847"/>
                      <a:pt x="1089" y="901"/>
                      <a:pt x="1096" y="961"/>
                    </a:cubicBezTo>
                    <a:cubicBezTo>
                      <a:pt x="1103" y="1021"/>
                      <a:pt x="1111" y="1104"/>
                      <a:pt x="1096" y="1142"/>
                    </a:cubicBezTo>
                    <a:cubicBezTo>
                      <a:pt x="1081" y="1180"/>
                      <a:pt x="1058" y="1187"/>
                      <a:pt x="1005" y="1187"/>
                    </a:cubicBezTo>
                    <a:cubicBezTo>
                      <a:pt x="952" y="1187"/>
                      <a:pt x="846" y="1142"/>
                      <a:pt x="778" y="1142"/>
                    </a:cubicBezTo>
                    <a:cubicBezTo>
                      <a:pt x="710" y="1142"/>
                      <a:pt x="688" y="1195"/>
                      <a:pt x="597" y="1187"/>
                    </a:cubicBezTo>
                    <a:cubicBezTo>
                      <a:pt x="506" y="1179"/>
                      <a:pt x="310" y="1105"/>
                      <a:pt x="234" y="1097"/>
                    </a:cubicBezTo>
                    <a:cubicBezTo>
                      <a:pt x="158" y="1089"/>
                      <a:pt x="168" y="1131"/>
                      <a:pt x="143" y="1142"/>
                    </a:cubicBezTo>
                    <a:cubicBezTo>
                      <a:pt x="118" y="1153"/>
                      <a:pt x="97" y="1178"/>
                      <a:pt x="82" y="1163"/>
                    </a:cubicBezTo>
                    <a:cubicBezTo>
                      <a:pt x="67" y="1148"/>
                      <a:pt x="58" y="1085"/>
                      <a:pt x="53" y="1051"/>
                    </a:cubicBezTo>
                    <a:cubicBezTo>
                      <a:pt x="48" y="1017"/>
                      <a:pt x="61" y="1006"/>
                      <a:pt x="53" y="961"/>
                    </a:cubicBezTo>
                    <a:cubicBezTo>
                      <a:pt x="45" y="916"/>
                      <a:pt x="0" y="847"/>
                      <a:pt x="7" y="779"/>
                    </a:cubicBezTo>
                    <a:cubicBezTo>
                      <a:pt x="14" y="711"/>
                      <a:pt x="98" y="643"/>
                      <a:pt x="98" y="552"/>
                    </a:cubicBezTo>
                    <a:cubicBezTo>
                      <a:pt x="98" y="461"/>
                      <a:pt x="14" y="310"/>
                      <a:pt x="7" y="235"/>
                    </a:cubicBezTo>
                    <a:cubicBezTo>
                      <a:pt x="0" y="160"/>
                      <a:pt x="23" y="122"/>
                      <a:pt x="53" y="99"/>
                    </a:cubicBezTo>
                    <a:close/>
                  </a:path>
                </a:pathLst>
              </a:custGeom>
              <a:solidFill>
                <a:srgbClr val="ffcc99">
                  <a:alpha val="53000"/>
                </a:srgbClr>
              </a:solidFill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35520" y="2870280"/>
                <a:ext cx="594000" cy="1006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292720" y="2814480"/>
              <a:ext cx="1440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Програм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подгот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  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Лет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402000" y="4276800"/>
            <a:ext cx="1763640" cy="1776240"/>
            <a:chOff x="3402000" y="4276800"/>
            <a:chExt cx="1763640" cy="1776240"/>
          </a:xfrm>
        </p:grpSpPr>
        <p:grpSp>
          <p:nvGrpSpPr>
            <p:cNvPr id="116" name=""/>
            <p:cNvGrpSpPr/>
            <p:nvPr/>
          </p:nvGrpSpPr>
          <p:grpSpPr>
            <a:xfrm>
              <a:off x="3402000" y="4276800"/>
              <a:ext cx="1763640" cy="1776240"/>
              <a:chOff x="3402000" y="4276800"/>
              <a:chExt cx="1763640" cy="1776240"/>
            </a:xfrm>
          </p:grpSpPr>
          <p:sp>
            <p:nvSpPr>
              <p:cNvPr id="117" name=""/>
              <p:cNvSpPr/>
              <p:nvPr/>
            </p:nvSpPr>
            <p:spPr>
              <a:xfrm>
                <a:off x="3402000" y="4276800"/>
                <a:ext cx="1763640" cy="1776240"/>
              </a:xfrm>
              <a:custGeom>
                <a:avLst/>
                <a:gdLst/>
                <a:ahLst/>
                <a:rect l="l" t="t" r="r" b="b"/>
                <a:pathLst>
                  <a:path w="1111" h="1195">
                    <a:moveTo>
                      <a:pt x="53" y="99"/>
                    </a:moveTo>
                    <a:cubicBezTo>
                      <a:pt x="83" y="76"/>
                      <a:pt x="144" y="114"/>
                      <a:pt x="189" y="99"/>
                    </a:cubicBezTo>
                    <a:cubicBezTo>
                      <a:pt x="234" y="84"/>
                      <a:pt x="234" y="0"/>
                      <a:pt x="325" y="8"/>
                    </a:cubicBezTo>
                    <a:cubicBezTo>
                      <a:pt x="416" y="16"/>
                      <a:pt x="627" y="137"/>
                      <a:pt x="733" y="144"/>
                    </a:cubicBezTo>
                    <a:cubicBezTo>
                      <a:pt x="839" y="151"/>
                      <a:pt x="907" y="53"/>
                      <a:pt x="960" y="53"/>
                    </a:cubicBezTo>
                    <a:cubicBezTo>
                      <a:pt x="1013" y="53"/>
                      <a:pt x="1028" y="91"/>
                      <a:pt x="1051" y="144"/>
                    </a:cubicBezTo>
                    <a:cubicBezTo>
                      <a:pt x="1074" y="197"/>
                      <a:pt x="1089" y="303"/>
                      <a:pt x="1096" y="371"/>
                    </a:cubicBezTo>
                    <a:cubicBezTo>
                      <a:pt x="1103" y="439"/>
                      <a:pt x="1103" y="484"/>
                      <a:pt x="1096" y="552"/>
                    </a:cubicBezTo>
                    <a:cubicBezTo>
                      <a:pt x="1089" y="620"/>
                      <a:pt x="1051" y="711"/>
                      <a:pt x="1051" y="779"/>
                    </a:cubicBezTo>
                    <a:cubicBezTo>
                      <a:pt x="1051" y="847"/>
                      <a:pt x="1089" y="901"/>
                      <a:pt x="1096" y="961"/>
                    </a:cubicBezTo>
                    <a:cubicBezTo>
                      <a:pt x="1103" y="1021"/>
                      <a:pt x="1111" y="1104"/>
                      <a:pt x="1096" y="1142"/>
                    </a:cubicBezTo>
                    <a:cubicBezTo>
                      <a:pt x="1081" y="1180"/>
                      <a:pt x="1058" y="1187"/>
                      <a:pt x="1005" y="1187"/>
                    </a:cubicBezTo>
                    <a:cubicBezTo>
                      <a:pt x="952" y="1187"/>
                      <a:pt x="846" y="1142"/>
                      <a:pt x="778" y="1142"/>
                    </a:cubicBezTo>
                    <a:cubicBezTo>
                      <a:pt x="710" y="1142"/>
                      <a:pt x="688" y="1195"/>
                      <a:pt x="597" y="1187"/>
                    </a:cubicBezTo>
                    <a:cubicBezTo>
                      <a:pt x="506" y="1179"/>
                      <a:pt x="310" y="1105"/>
                      <a:pt x="234" y="1097"/>
                    </a:cubicBezTo>
                    <a:cubicBezTo>
                      <a:pt x="158" y="1089"/>
                      <a:pt x="168" y="1131"/>
                      <a:pt x="143" y="1142"/>
                    </a:cubicBezTo>
                    <a:cubicBezTo>
                      <a:pt x="118" y="1153"/>
                      <a:pt x="97" y="1178"/>
                      <a:pt x="82" y="1163"/>
                    </a:cubicBezTo>
                    <a:cubicBezTo>
                      <a:pt x="67" y="1148"/>
                      <a:pt x="58" y="1085"/>
                      <a:pt x="53" y="1051"/>
                    </a:cubicBezTo>
                    <a:cubicBezTo>
                      <a:pt x="48" y="1017"/>
                      <a:pt x="61" y="1006"/>
                      <a:pt x="53" y="961"/>
                    </a:cubicBezTo>
                    <a:cubicBezTo>
                      <a:pt x="45" y="916"/>
                      <a:pt x="0" y="847"/>
                      <a:pt x="7" y="779"/>
                    </a:cubicBezTo>
                    <a:cubicBezTo>
                      <a:pt x="14" y="711"/>
                      <a:pt x="98" y="643"/>
                      <a:pt x="98" y="552"/>
                    </a:cubicBezTo>
                    <a:cubicBezTo>
                      <a:pt x="98" y="461"/>
                      <a:pt x="14" y="310"/>
                      <a:pt x="7" y="235"/>
                    </a:cubicBezTo>
                    <a:cubicBezTo>
                      <a:pt x="0" y="160"/>
                      <a:pt x="23" y="122"/>
                      <a:pt x="53" y="99"/>
                    </a:cubicBezTo>
                    <a:close/>
                  </a:path>
                </a:pathLst>
              </a:custGeom>
              <a:solidFill>
                <a:srgbClr val="ffcc99">
                  <a:alpha val="51000"/>
                </a:srgbClr>
              </a:solidFill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24360" y="4694400"/>
                <a:ext cx="718920" cy="1006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492360" y="4653000"/>
              <a:ext cx="1638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Упра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ресурс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экипаж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_kirin</dc:creator>
  <dc:description/>
  <dc:language>en-US</dc:language>
  <cp:lastModifiedBy>user</cp:lastModifiedBy>
  <cp:revision>0</cp:revision>
  <dc:subject/>
  <dc:title>ОБ УПРАВЛЕНИИ РИСКАМИ И СТРАХОВАНИИ АВИАЦИОННЫХ РИСКОВ ОБЩЕСТВА</dc:title>
</cp:coreProperties>
</file>